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4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8.jpeg" ContentType="image/jpeg"/>
  <Override PartName="/ppt/media/image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469-5CCE-4614-8028-1B72DE2CE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00A-C58B-4F7D-B8A4-1514F1E3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15C-4B0A-440D-A954-5281A5B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A23-8B5A-43E3-927C-1CA6890D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166-01A5-4E32-90A1-A8943B41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B4C-6AE4-403F-9A6A-CEC017D4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F4B-7544-4FF8-A66A-287DBD1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D03-8E86-4994-A85C-F15874E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431-0A5D-41A2-A0F8-EFC5C96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9F6-FD02-4462-A784-FAEA0B9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B1A-6D71-4748-B7AE-A8D7456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531-0662-4C81-AA1B-8AA6132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F5E-E347-4F0D-AD8E-991E666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951B-AF3C-4F0B-8735-92EC9EF8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zevs@robotek.ru" TargetMode="External"/><Relationship Id="rId2" Type="http://schemas.openxmlformats.org/officeDocument/2006/relationships/hyperlink" Target="http://www.rusfolkart.ru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ФОНД КУЛЬТУРНЫХ ПРОГРАММ СВ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ч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2007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ставка иллюстраций к книге для детей Мэри Энн Аллин и Марии Халтунен </a:t>
            </a: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«Анна и Кошки, или Приключение в Эрмитаж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30 марта по 10 апреля 2007 года 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ежном образовательном центре Государственного Эрмитажа была проведена выставка иллюстраций Анатолия Белкина и Марьяны Соколинской к книге Мэри Энн Аллин и Марии Халтунен «Анна и Кошки, или Приключение в Эрмита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проводился совместно с Государственным Эрмитажем. Открытие выставки было приурочено к проведению «Дня мартовского кота в Эрмитаже». На выставке были представлены 26 авторских графических иллюстраций и 8 подготовительных эскизов к книге. Во время проведения выставки проводился конкурс для детей младшего школьного возраста на рисунок «Всё о кошках» и во время открытия мастер-класс для детей «Рисуем с мастером». 40 детей, воспитанников СРЦ для несовершеннолетних из гг. Всеволожска и Отрадное Ленинградской области и Дубровского детского дома пос. Невская Дубровка посетили выставку и приняли участие в конкурсе и мастер-клас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выставке была отражена  в СМИ. Выставку посетило более 2000 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по программе составили 36820 руб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3035160" cy="218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21668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29527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Фольклорный фестиваль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«Наследники традиций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стная программа с Санкт-Петербургской  консерваторией и Дворц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орчества ю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я с 2006 года, Фонд является одним из организаторов фестива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07 году в рамках фестиваля для 120 детей-сирот и детей, лиш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ьского попечения Ленингра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и организованы выступления фольклорных коллекти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знакомились с фольклорными коллективами из Воронежа, Костром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раты в размере 2810 руб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9892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Международная ярмарка народного искусства в Санта Фе, США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ло получено положительное решение организационного комитета Международной ярмар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ного искусства в Санта Фе на заявку Фонда для представления русского народ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усства. На ярмарке были представлены работы Светланы Уласевич, представля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ое искусство резьбы по дереву на основе традиционной школы резьбы с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городское, Сергиево-Посадского района Московской области  и  куклы, выполненных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дициях русской народной куклы мастером из Нижнего Новгорода  Ольгой Бочаров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ьга Бочарова и Евгения Зимнухова приняли участие в семинаре, организованном ЮНЕС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участников ярмар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рмарку посетило свыше 10000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траты в России составили 11145 рублей. Затраты в США оплачены организацион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итетом ярмар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4246560" cy="264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2906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Международная ярмарка народного искусства в Санта Фе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173400" cy="23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64448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24360" y="1484280"/>
            <a:ext cx="305928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2907000" cy="2187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012000" y="3933720"/>
            <a:ext cx="2916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Международная ярмарка народного искусства в Санта Фе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2905200" cy="21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290520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88000" y="3860640"/>
            <a:ext cx="3456000" cy="260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916360" y="3263760"/>
            <a:ext cx="27050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рограмма для детей из цикла «Путешествие в мир русского народного искус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рограммы заключалась в подаче материала о народных ремеслах через наиболее близкую для детей форму повествования - сказку. Программу завершал традиционный праздник с народными песнями, хороводами, играми. Во время проведения  программы «СКАЗКА - 2007» дети познакомились с современной сказочницей Ириной Рогалёвой и её сказками, занимались ткачеством, плетением из лозы и бересты, лепкой из глины с мастерами «Школы ремесел» Российского Этнографического музея, сочиняли собственные сказки, готовились к многочисленным конкурсам и представляли сочиненные ими сказки на праздн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азднике была представлена выставка работ, сделанных детьми во время проведения программы. Музыкальное сопровождение праздника подготовлено Фольклорным ансамблем Санкт-Петербургской консерва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была освещена  на Ленинградском областном телеви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грамме приняли участие 120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на программу составили 50929 руб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работа с масте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692360" y="3933720"/>
            <a:ext cx="164124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508720" y="3933720"/>
            <a:ext cx="214128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716360" y="1557360"/>
            <a:ext cx="2871720" cy="216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619280" y="1558800"/>
            <a:ext cx="3017880" cy="2271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348000" y="3933720"/>
            <a:ext cx="2200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работ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2989440" cy="218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3292560" cy="2187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51440" y="40053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1280" y="1600200"/>
            <a:ext cx="329076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635280" y="3981600"/>
            <a:ext cx="1911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работ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78360" cy="218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29076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145260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804000" y="4005360"/>
            <a:ext cx="145260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71640" y="3860640"/>
            <a:ext cx="359424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ети пишут и представляют ска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бровский детски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Book Antiqua"/>
              </a:rPr>
              <a:t>Волшебные дары л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92104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378240" cy="2243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96000" y="3789360"/>
            <a:ext cx="3348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70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нд культурных программ СВАШ основан в 2002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6920" y="2707920"/>
            <a:ext cx="7490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Основная миссия Фонд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и поддержка программ в области искусства, культуры и образования в России и других страна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ети пишут и представляют ска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реабилитационный центр для несовершеннолетних г. Всеволож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808080"/>
                </a:solidFill>
                <a:latin typeface="Book Antiqua"/>
              </a:rPr>
              <a:t>Волшебное превращение г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292560" cy="2187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50700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0120" y="3573360"/>
            <a:ext cx="2182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ети пишут и представляют ска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-реабилитационный центр для несовершеннолетних г. Отрад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Book Antiqua"/>
              </a:rPr>
              <a:t>Берёзовая 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92360" cy="254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3594240" cy="2578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88000" y="3716280"/>
            <a:ext cx="1870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казка – 2007</a:t>
            </a:r>
            <a:br>
              <a:rPr sz="40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Праз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132000" cy="207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67280" y="4287960"/>
            <a:ext cx="3276720" cy="2176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3305160" cy="219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132000" y="4670280"/>
            <a:ext cx="2764080" cy="2187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132000" y="1916280"/>
            <a:ext cx="27352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Сбор средств на программу Сказка -2007 на фестивале «Добрый Пи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760760" cy="235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476360" y="1628640"/>
            <a:ext cx="3024360" cy="226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643280" y="39672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476360" y="3860640"/>
            <a:ext cx="3024360" cy="2264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443640" y="1844640"/>
            <a:ext cx="2089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Конт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нухова Евгения Семё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ор Фо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фон 812 / 272-0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. 8 921 355 3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05 224 6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evs@robotek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usfolkar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«Детские программ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труктура управления Фонд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й состав Фонда в 2007 году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ция и работники по договорам – 6 челове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онтеры                                                      – 8 человек</a:t>
            </a: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1640" y="1585800"/>
            <a:ext cx="8208720" cy="4463280"/>
            <a:chOff x="431640" y="1585800"/>
            <a:chExt cx="8208720" cy="4463280"/>
          </a:xfrm>
        </p:grpSpPr>
        <p:cxnSp>
          <p:nvCxnSpPr>
            <p:cNvPr id="54" name="_s35866"/>
            <p:cNvCxnSpPr>
              <a:stCxn id="55" idx="1"/>
              <a:endCxn id="56" idx="2"/>
            </p:cNvCxnSpPr>
            <p:nvPr/>
          </p:nvCxnSpPr>
          <p:spPr>
            <a:xfrm rot="10800000">
              <a:off x="5599440" y="4831200"/>
              <a:ext cx="30456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864"/>
            <p:cNvCxnSpPr>
              <a:stCxn id="58" idx="0"/>
              <a:endCxn id="59" idx="2"/>
            </p:cNvCxnSpPr>
            <p:nvPr/>
          </p:nvCxnSpPr>
          <p:spPr>
            <a:xfrm flipV="1" rot="16200000">
              <a:off x="5928840" y="2220840"/>
              <a:ext cx="406440" cy="319284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5862"/>
            <p:cNvCxnSpPr>
              <a:stCxn id="56" idx="0"/>
              <a:endCxn id="59" idx="2"/>
            </p:cNvCxnSpPr>
            <p:nvPr/>
          </p:nvCxnSpPr>
          <p:spPr>
            <a:xfrm flipV="1" rot="16200000">
              <a:off x="4864680" y="3285000"/>
              <a:ext cx="406440" cy="10645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35860"/>
            <p:cNvCxnSpPr>
              <a:stCxn id="62" idx="0"/>
              <a:endCxn id="59" idx="2"/>
            </p:cNvCxnSpPr>
            <p:nvPr/>
          </p:nvCxnSpPr>
          <p:spPr>
            <a:xfrm flipH="1" flipV="1" rot="5400000">
              <a:off x="3801960" y="3286080"/>
              <a:ext cx="406440" cy="106236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35858"/>
            <p:cNvCxnSpPr>
              <a:stCxn id="64" idx="0"/>
              <a:endCxn id="59" idx="2"/>
            </p:cNvCxnSpPr>
            <p:nvPr/>
          </p:nvCxnSpPr>
          <p:spPr>
            <a:xfrm flipH="1" flipV="1" rot="5400000">
              <a:off x="2736720" y="2220840"/>
              <a:ext cx="406440" cy="319320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35852"/>
            <p:cNvCxnSpPr>
              <a:stCxn id="59" idx="0"/>
              <a:endCxn id="66" idx="2"/>
            </p:cNvCxnSpPr>
            <p:nvPr/>
          </p:nvCxnSpPr>
          <p:spPr>
            <a:xfrm flipV="1">
              <a:off x="4536000" y="2396520"/>
              <a:ext cx="2520" cy="40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5848"/>
            <p:cNvSpPr/>
            <p:nvPr/>
          </p:nvSpPr>
          <p:spPr>
            <a:xfrm>
              <a:off x="3624120" y="158580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авление Фон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5849"/>
            <p:cNvSpPr/>
            <p:nvPr/>
          </p:nvSpPr>
          <p:spPr>
            <a:xfrm>
              <a:off x="3624120" y="280296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5857"/>
            <p:cNvSpPr/>
            <p:nvPr/>
          </p:nvSpPr>
          <p:spPr>
            <a:xfrm>
              <a:off x="431640" y="402048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Бухгалте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5859"/>
            <p:cNvSpPr/>
            <p:nvPr/>
          </p:nvSpPr>
          <p:spPr>
            <a:xfrm>
              <a:off x="2559600" y="402048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Ассист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861"/>
            <p:cNvSpPr/>
            <p:nvPr/>
          </p:nvSpPr>
          <p:spPr>
            <a:xfrm>
              <a:off x="4687920" y="402048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уководите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по договорам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863"/>
            <p:cNvSpPr/>
            <p:nvPr/>
          </p:nvSpPr>
          <p:spPr>
            <a:xfrm>
              <a:off x="6816240" y="402048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олонтер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5865"/>
            <p:cNvSpPr/>
            <p:nvPr/>
          </p:nvSpPr>
          <p:spPr>
            <a:xfrm>
              <a:off x="5904000" y="5237640"/>
              <a:ext cx="1824120" cy="81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ботни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о договора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сновные цели, достигнутые в 2007 го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изация искусства современной книжной иллюстрации в сочетании  с целью образования детей и юнош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культурных традиций Российской Федерации. Поддержка арт-проектов, связанных с миссией Фон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изация русского народного искусства за рубеж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творительная деятельность. Разработка культурных и образовательных программ для детей- сирот и детей, лишенных родительского попечения Ленингра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Финансирование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в  тыс.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жертвования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жертвования частны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жертв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ранные на фестив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обрый Пи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сход средств по програм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981000"/>
          <a:ext cx="8229600" cy="5886360"/>
        </p:xfrm>
        <a:graphic>
          <a:graphicData uri="http://schemas.openxmlformats.org/drawingml/2006/table">
            <a:tbl>
              <a:tblPr/>
              <a:tblGrid>
                <a:gridCol w="2235240"/>
                <a:gridCol w="1176120"/>
                <a:gridCol w="1057320"/>
                <a:gridCol w="1057320"/>
                <a:gridCol w="1057320"/>
                <a:gridCol w="1646280"/>
              </a:tblGrid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ыставка иллюстраций к книге для детей «Анна и Кошки, или Приключение в Эрмитаж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Организация выста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Полиграфические и прочи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Презентация выста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Ежегодный фестиваль-конкурс для детей  «Сказка -2007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Организация занят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Организация празд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.  организация праздника и музыкальное сопровожд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2. Экскурсии в музей и теа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3. Подарки, чаепи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Прочие расход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., банк, связ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сход средств по программам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583160"/>
        </p:xfrm>
        <a:graphic>
          <a:graphicData uri="http://schemas.openxmlformats.org/drawingml/2006/table">
            <a:tbl>
              <a:tblPr/>
              <a:tblGrid>
                <a:gridCol w="2235240"/>
                <a:gridCol w="1176120"/>
                <a:gridCol w="1057320"/>
                <a:gridCol w="1057320"/>
                <a:gridCol w="105732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Фольклорный фестиваль-смотр «Наследники традици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рганизации фестива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еждународная ярмарка народного искусства в Санта Фе С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. Оформление документов для выез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. Оформление изделий на выво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. Подготовка информационных материа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дминистратив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Бан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еминары, консультации, конферен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рен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(канцелярские, почтовые и др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и на реализации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рограммы, выполненные в 2007 го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авка иллюстраций к книге для детей Мэри Энн Аллин и Марии Халтунен         «Анна и Кошки, или Приключение в Эрмитаж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льклорный фестиваль-смотр «Наследники традиц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Международной ярмарке народного искусства в Санта Фе, СШ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годный праздник-конкурс для детей «СКАЗКА -2007»  из цикла “Путешествие в мир русского народного искусств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ставка иллюстраций к книге для детей Мэри Энн Аллин и Марии Халтунен </a:t>
            </a: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«Анна и Кошки, или Приключение в Эрмитаже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291816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47640" y="3933720"/>
            <a:ext cx="2921040" cy="2187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207040" y="3938760"/>
            <a:ext cx="2921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8:13:03Z</dcterms:created>
  <dc:creator>Yevgenia Zimnukhova</dc:creator>
  <dc:description/>
  <dc:language>en-US</dc:language>
  <cp:lastModifiedBy>Yevgenia Zimnukhova</cp:lastModifiedBy>
  <dcterms:modified xsi:type="dcterms:W3CDTF">2008-10-02T21:45:26Z</dcterms:modified>
  <cp:revision>42</cp:revision>
  <dc:subject/>
  <dc:title>ФОНД КУЛЬТУРНЫХ ПРОГРАММ СВАШ</dc:title>
</cp:coreProperties>
</file>